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E797-DBD3-4FF9-8DDC-67692126F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20C2-3B86-4F00-8D39-B27DD1FCD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E4F2-BCC4-4D09-A4B1-EBBCEF0F2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8418-8C0E-447B-9C24-6FBB06136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A027-72F8-4125-A4AA-CC3C469CC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B96B-431D-4CF1-B137-E1D08D3A0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53CB-4AEB-478A-B0E7-FF68CAEC2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EBC0-D5F9-497B-A667-D95201C48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277E-620A-4C57-8FD2-A27D8FA9C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4F30-6057-4059-A252-E38079C18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5C22-7AB3-4DD1-B41C-DF87D133C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04F3-D445-48FF-B4FF-9CBB2DB4A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83B3-DA1A-45DB-B197-5D9EA9D54A52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RCP ala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sgi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RCP alapok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7-03-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gyfajta architektúra 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6248520" cy="546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1F29-2B40-40EC-9981-EB6AEB6113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gyfajta architektúra 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42968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DC76-BF63-482E-B347-2C03E5721D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OSGi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komponens modell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OSGi framework R4.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lapul, annak gyakorlatilag egy implementáció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sgi.org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projekt ne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n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1894-E2E3-4F8B-B026-CC04809A39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Runtime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lkalmazás modellért és a bővítésért fel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keresi és futtatja a megadott alkalmazást amely szintén bővítési ponton keresztül adható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rmékesítésért is fe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plash scree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Ablak iko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D434-BA86-4BEB-BB4F-E28CCCDED0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Runtime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xtension Registr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Runtim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ban találhat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Egy nagyon szemléletes példa az org.eclipse.ui.actionSet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315200" cy="259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92EF-A839-4D7E-8F37-A84219DA83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SWT és JFace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lugineknél már megismerkedtünk velük. Rövi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WT - alacsony szintű grafikus könyvtár, amely a felhasználói felület alap építő kockáit ad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Face – Ráépül az SWT osztályaira, de rejti el. A rabszolga munkát csökk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odel-View-Control alapú Viewer (Table/Tree)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Dialógus ablako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Felhasználói akció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6600-8C66-4531-8DD2-BEBED38B0A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UI Workbench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íg a JFace struktúrát ad az SWT-nek, addig a Workbench prezentációt és koordinációt ad a JFacenek. Nézetek és editorok találhatóak különböző perspektívák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latilag egy bővíthető felületek kapunk eredményü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E24A-B75B-4383-AFF2-71C7565D5C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7-03-07T10:15:02Z</dcterms:modified>
  <cp:revision>550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